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3A6-98CE-4ECF-8203-E5E3C4AF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59C-AF85-4EA2-8E8A-05FC226E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166-F6AC-49BB-A08E-E7A2B1FE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139-C927-4BCD-A297-7BBB6817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E91-3BF9-4E3B-9DD2-10B78E97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160-7063-4271-983F-C9458799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901-3FBD-4772-A32D-FFD7E66A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ACF-F432-4CFB-8B03-1FB28FB8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185-ED11-4A83-923F-DEC946EB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417-3A1E-4E98-92B5-DD97D2CF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79E-E04B-4936-B463-8320F8AD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416-C09B-4816-A65C-4D38D7DF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672AFBD4-2E30-450B-BCE2-901D3EBC79D0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EXPReS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 = Express Production Real-time e-VLBI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year project (March 2006-2009) funded by the European Commission (DG-INFSO), Sixth  Framework Programme, Contract #026642 EXP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ded at 3.9 million 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llaboration: 19 radioastronomy institutes and research and education networks (NRENs) representing 14 countries on 6 conti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to create a distributed, large-scale astronomical instrument of continental and inter-continental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s: high-speed communication networks operating in real-time and connecting some of the largest and most sensitive radio telescopes on the planet to the central correlator in the Nether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C0D-4B9A-473C-879D-03FC81E3F61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erferometr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0000" y="841320"/>
            <a:ext cx="8604000" cy="517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136-A014-4020-9324-E60BD264655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e-VLBI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VL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recording data and shipping disks to the central processo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mediat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port data over networks and correlate i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-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 weeks from the observation &amp; correlation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 problems in 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 transient events and schedule near-immediate follow-on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B72-1A21-47BB-AA3E-D69806321F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raditional VLBI vs. e-VLBI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5520" y="1303200"/>
            <a:ext cx="8683560" cy="47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869-0B27-4023-BA46-8C72B3A24B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Partn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 Countries, 6 Conti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dio Astronomy Instit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int Institute for VLBI in Europe (Coordinator)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cibo Observatory, National Astronomy and Ionosphere Center, Cornell University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stralia Telescope National Facility, a Division of CSIRO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e of Radioastronomy, National Institute for Astrophysics (INAF), 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drell Bank Observatory, University of Manchester, United King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Planck Institute for Radio Astronomy (MPIfR),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sähovi Radio Observatory, Helsinki University of Technology (TKK), Fin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tional Center of Geographical Information, National Geographic Institute (CNIG-IGN), 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tebeesthoek Radio Astronomy Observatory, National Research Foundation, South Af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herlands Foundation for Research in Astronomy (ASTRON), NWO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sala Space Observatory, Chalmers University of Technology, Sw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nghai Astronomical Observatory, Chinese Academy of Sciences, 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run Centre for Astronomy, Nicolaus Copernicus University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able Integrated Geodetic Observatory (TIGO), University of Concepción,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ntspils International Radio Astronomy Center, Ventspils University College, Lat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ional Research and Education Networks (NRE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ARNet,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NTE, United King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znan Supercomputing and Networking Center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RFnet, The Nether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CDC-B4A7-4D9D-9B11-40F0E3A778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ticipating Telescopes and Network Paths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791320"/>
            <a:ext cx="8229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created by Paul Boven, JIVE. Satellite image: Blue Marble Next Generation courtesy of NASA Visible Earth (visibleearth.nasa.gov). *Logical network path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3800" cy="44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03D-9830-4D1C-8D8F-4613914A73A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Network Diagra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1130400"/>
            <a:ext cx="6933960" cy="490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B38-0CA9-41C9-8398-1B06EC910B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tivit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#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Coordin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of I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Charles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N-NREN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hevers, 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LBI Science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onway, Chal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utrea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istine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Servi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ad Szomoru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Provisio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isco Colomer, CNIG-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R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3827-9E07-4B4D-A21B-039E40D58D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VLBI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tronomy technique: Very Long Baseline Interfer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dio telescope looks at an object in the sky and collects data to create an “image” of the sou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telescopes can view the same object simultaneously.  The distance between the telescopes is the baseline.  The baseline can be compared to building a single telescope with the diameter of this distance (sort o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olution increases with additional telescopes and longer base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nsitivity of the image increases with the data collection rate at the telesco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entral processor decodes, aligns and correlates the data for every possible telescope combi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images of cosmic radio sources with up to a hundred times better resolution than images from the best optical tele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DC5-F657-48DD-8C1D-04B682C2F5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perture Synthesis Imag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838080" y="1219320"/>
            <a:ext cx="7315200" cy="3657600"/>
            <a:chOff x="838080" y="1219320"/>
            <a:chExt cx="7315200" cy="3657600"/>
          </a:xfrm>
        </p:grpSpPr>
        <p:grpSp>
          <p:nvGrpSpPr>
            <p:cNvPr id="97" name=""/>
            <p:cNvGrpSpPr/>
            <p:nvPr/>
          </p:nvGrpSpPr>
          <p:grpSpPr>
            <a:xfrm>
              <a:off x="838080" y="1219320"/>
              <a:ext cx="7315200" cy="3657600"/>
              <a:chOff x="838080" y="1219320"/>
              <a:chExt cx="7315200" cy="3657600"/>
            </a:xfrm>
          </p:grpSpPr>
          <p:pic>
            <p:nvPicPr>
              <p:cNvPr id="9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324480" y="3048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38080" y="12193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8080" y="3048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12193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66880" y="3048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5680" y="12193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95680" y="3048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324480" y="12193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"/>
            <p:cNvSpPr/>
            <p:nvPr/>
          </p:nvSpPr>
          <p:spPr>
            <a:xfrm>
              <a:off x="4800600" y="4479840"/>
              <a:ext cx="334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mage Credits: Avruch and Pogrebenk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echnique that uses a number of telescopes to simulate a much larger one.   A larger dish, real or simulated, improves image clarity and brightness.  This requires coordination between the telescopes and a supercomputer.  Consider the examples displaying aperture size, aperture distribution and image q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The science of e-VLB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65F-06F4-4321-B57A-3D3C454216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erferometry Makes a Virtual Telescop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4840" y="1257480"/>
            <a:ext cx="87343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711-DFB1-4E00-8785-F97C6E13E54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the correlator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, purpose-designed and purpose-built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hesis imaging simulates a very large telescope by measuring Fourier components of sky brightness on each baselin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s, aligns and correlates the data for every possible telescope 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N MkIV data processor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 silicon, 1024 c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data is 1 Gb/s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 100 T-operations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0D7-544D-46E3-BEB5-155FACFC94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Kristine Yun</cp:lastModifiedBy>
  <dcterms:modified xsi:type="dcterms:W3CDTF">2007-10-03T11:12:40Z</dcterms:modified>
  <cp:revision>29</cp:revision>
  <dc:subject/>
  <dc:title>Slide 1</dc:title>
</cp:coreProperties>
</file>